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wmf" ContentType="image/x-wmf"/>
  <Override PartName="/ppt/media/image4.jpeg" ContentType="image/jpeg"/>
  <Override PartName="/ppt/media/image2.png" ContentType="image/png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9.wmf" ContentType="image/x-wmf"/>
  <Override PartName="/ppt/media/image1.jpeg" ContentType="image/jpeg"/>
  <Override PartName="/ppt/media/image15.wmf" ContentType="image/x-wmf"/>
  <Override PartName="/ppt/media/image5.jpeg" ContentType="image/jpeg"/>
  <Override PartName="/ppt/media/image20.wmf" ContentType="image/x-wmf"/>
  <Override PartName="/ppt/media/image1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12963525" cy="8640763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FCA35-99B8-4E16-A4D3-CCC7B91F5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46200" y="347400"/>
            <a:ext cx="11669760" cy="143964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46200" y="2016000"/>
            <a:ext cx="1166976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46200" y="4993920"/>
            <a:ext cx="1166976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8EC58-2729-40B3-89E3-D8F1B4726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46200" y="347400"/>
            <a:ext cx="11669760" cy="143964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46200" y="2016000"/>
            <a:ext cx="569448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625800" y="2016000"/>
            <a:ext cx="569448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46200" y="4993920"/>
            <a:ext cx="569448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625800" y="4993920"/>
            <a:ext cx="569448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FA7DE-B5E4-4F57-B515-D989C9F75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46200" y="347400"/>
            <a:ext cx="11669760" cy="143964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46200" y="2016000"/>
            <a:ext cx="375732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91800" y="2016000"/>
            <a:ext cx="375732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537400" y="2016000"/>
            <a:ext cx="375732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46200" y="4993920"/>
            <a:ext cx="375732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591800" y="4993920"/>
            <a:ext cx="375732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8537400" y="4993920"/>
            <a:ext cx="375732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244E2-BE86-4722-816B-01A818C70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46200" y="347400"/>
            <a:ext cx="11669760" cy="143964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46200" y="2016000"/>
            <a:ext cx="11669760" cy="570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74"/>
              </a:spcBef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7F640-24F6-40E4-80CF-849C3EA0D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46200" y="347400"/>
            <a:ext cx="11669760" cy="143964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46200" y="2016000"/>
            <a:ext cx="11669760" cy="570096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64145-B872-4D0E-9EC9-D6ACAA891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46200" y="347400"/>
            <a:ext cx="11669760" cy="143964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46200" y="2016000"/>
            <a:ext cx="5694480" cy="570096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625800" y="2016000"/>
            <a:ext cx="5694480" cy="570096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D8F04-476A-430D-8625-E663386F8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46200" y="347400"/>
            <a:ext cx="11669760" cy="143964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C5E59-91F2-4F96-8037-83ED1066C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46200" y="347400"/>
            <a:ext cx="11669760" cy="66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74"/>
              </a:spcBef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BB802-2A39-447D-9A9D-0A7A3660D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46200" y="347400"/>
            <a:ext cx="11669760" cy="143964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46200" y="2016000"/>
            <a:ext cx="569448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25800" y="2016000"/>
            <a:ext cx="5694480" cy="570096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46200" y="4993920"/>
            <a:ext cx="569448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755B4-F823-418F-8F6D-EAE537FA5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46200" y="347400"/>
            <a:ext cx="11669760" cy="143964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46200" y="2016000"/>
            <a:ext cx="5694480" cy="570096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25800" y="2016000"/>
            <a:ext cx="569448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625800" y="4993920"/>
            <a:ext cx="569448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DD6C0-CFF6-4397-B811-57E38F9AB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46200" y="347400"/>
            <a:ext cx="11669760" cy="143964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46200" y="2016000"/>
            <a:ext cx="569448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625800" y="2016000"/>
            <a:ext cx="569448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46200" y="4993920"/>
            <a:ext cx="1166976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68BB1-951C-4A78-8BE6-EB26CE577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46200" y="347400"/>
            <a:ext cx="11669760" cy="143964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46200" y="2016000"/>
            <a:ext cx="11669760" cy="570096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marL="461880" indent="-461880">
              <a:spcBef>
                <a:spcPts val="1074"/>
              </a:spcBef>
              <a:buClr>
                <a:srgbClr val="000000"/>
              </a:buClr>
              <a:buFont typeface="Arial"/>
              <a:buChar char="•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lvl="1" marL="1003320" indent="-385920">
              <a:spcBef>
                <a:spcPts val="1074"/>
              </a:spcBef>
              <a:buClr>
                <a:srgbClr val="000000"/>
              </a:buClr>
              <a:buFont typeface="Arial"/>
              <a:buChar char="–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lvl="2" marL="1542960" indent="-306360">
              <a:spcBef>
                <a:spcPts val="1074"/>
              </a:spcBef>
              <a:buClr>
                <a:srgbClr val="000000"/>
              </a:buClr>
              <a:buFont typeface="Arial"/>
              <a:buChar char="•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lvl="3" marL="2160720" indent="-309600">
              <a:spcBef>
                <a:spcPts val="1074"/>
              </a:spcBef>
              <a:buClr>
                <a:srgbClr val="000000"/>
              </a:buClr>
              <a:buFont typeface="Arial"/>
              <a:buChar char="–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lvl="4" marL="2778120" indent="-309600">
              <a:spcBef>
                <a:spcPts val="1074"/>
              </a:spcBef>
              <a:buClr>
                <a:srgbClr val="000000"/>
              </a:buClr>
              <a:buFont typeface="Arial"/>
              <a:buChar char="»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lvl="5" marL="2778120" indent="-309600">
              <a:spcBef>
                <a:spcPts val="1074"/>
              </a:spcBef>
              <a:buClr>
                <a:srgbClr val="000000"/>
              </a:buClr>
              <a:buFont typeface="Arial"/>
              <a:buChar char="»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lvl="6" marL="2778120" indent="-309600">
              <a:spcBef>
                <a:spcPts val="1074"/>
              </a:spcBef>
              <a:buClr>
                <a:srgbClr val="000000"/>
              </a:buClr>
              <a:buFont typeface="Arial"/>
              <a:buChar char="»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5840" y="7870320"/>
            <a:ext cx="3025800" cy="5986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Autofit/>
          </a:bodyPr>
          <a:lstStyle>
            <a:lvl1pPr indent="0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  <a:defRPr b="0" lang="cs-CZ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427640" y="0"/>
            <a:ext cx="4106880" cy="59832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  <a:defRPr b="1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289800" y="7870320"/>
            <a:ext cx="3025800" cy="5986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Autofit/>
          </a:bodyPr>
          <a:lstStyle>
            <a:lvl1pPr indent="0" algn="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  <a:defRPr b="0" lang="cs-CZ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fld id="{E51F2DCA-01EC-494C-8D04-50CD0CAFAA58}" type="slidenum">
              <a:rPr b="0" lang="cs-CZ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304920" y="152280"/>
            <a:ext cx="1079280" cy="1079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3.wmf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wmf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3.wmf"/><Relationship Id="rId4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8.wmf"/><Relationship Id="rId6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0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ae2e4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19320" y="838080"/>
            <a:ext cx="11034720" cy="2438640"/>
          </a:xfrm>
          <a:prstGeom prst="rect">
            <a:avLst/>
          </a:prstGeom>
          <a:solidFill>
            <a:srgbClr val="6d1543"/>
          </a:solidFill>
          <a:ln w="9360">
            <a:solidFill>
              <a:srgbClr val="ffffff"/>
            </a:solidFill>
            <a:miter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7200" spc="-1" strike="noStrike">
                <a:solidFill>
                  <a:srgbClr val="fbfadd"/>
                </a:solidFill>
                <a:latin typeface="Arial"/>
              </a:rPr>
              <a:t>Kulturní zájmy a potřeby</a:t>
            </a:r>
            <a:br>
              <a:rPr sz="7200"/>
            </a:br>
            <a:r>
              <a:rPr b="1" lang="en-US" sz="4000" spc="-1" strike="noStrike">
                <a:solidFill>
                  <a:srgbClr val="fbfadd"/>
                </a:solidFill>
                <a:latin typeface="Arial"/>
              </a:rPr>
              <a:t>obyvatel hlavního města Prah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599840" y="7162560"/>
            <a:ext cx="9753480" cy="10666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Autofit/>
          </a:bodyPr>
          <a:p>
            <a:pPr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spcAft>
                <a:spcPts val="3501"/>
              </a:spcAft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0" i="1" lang="en-US" sz="2800" spc="-1" strike="noStrike">
                <a:solidFill>
                  <a:srgbClr val="ffffcc"/>
                </a:solidFill>
                <a:latin typeface="Arial"/>
              </a:rPr>
              <a:t>Prezentace pro setkání představitelů pražské kulturní obce dne 14. 1.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STEM" descr=""/>
          <p:cNvPicPr/>
          <p:nvPr/>
        </p:nvPicPr>
        <p:blipFill>
          <a:blip r:embed="rId1"/>
          <a:stretch/>
        </p:blipFill>
        <p:spPr>
          <a:xfrm>
            <a:off x="4800600" y="3657600"/>
            <a:ext cx="3124080" cy="3287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26950-829D-40B7-B7BE-9E0F2CCE9AC6}" type="slidenum">
              <a:t>1</a:t>
            </a:fld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660680" y="25830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3880" y="152280"/>
            <a:ext cx="11149200" cy="144000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Reference od známých jsou základ.</a:t>
            </a:r>
            <a:r>
              <a:rPr b="1" lang="en-US" sz="4000" spc="-1" strike="noStrike">
                <a:solidFill>
                  <a:srgbClr val="990033"/>
                </a:solidFill>
                <a:latin typeface="Arial"/>
              </a:rPr>
              <a:t> </a:t>
            </a:r>
            <a:br>
              <a:rPr sz="4000"/>
            </a:b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Internetu patří nejenom budoucnost, ale i současno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03600" y="2571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98920" y="2570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903320" y="12715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03320" y="12715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903320" y="12715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903320" y="12715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903320" y="176220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036880" y="18288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036880" y="18288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284640" y="23814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371600" y="1600200"/>
            <a:ext cx="112014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Řekněte mi, odkud čerpáte informace o možnostech kulturního vyžití v Praze?“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565440" y="23288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285920" y="2016000"/>
          <a:ext cx="9937800" cy="6429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85920" y="2016000"/>
                    <a:ext cx="9937800" cy="642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308D4-BF88-4E33-9448-B185FBBBC62D}" type="slidenum">
              <a:t>10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47560" y="228600"/>
            <a:ext cx="11201400" cy="144000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cs-CZ" sz="3600" spc="-1" strike="noStrike">
                <a:solidFill>
                  <a:srgbClr val="990033"/>
                </a:solidFill>
                <a:latin typeface="Arial"/>
              </a:rPr>
              <a:t>Některé z pražských kulturních projektů </a:t>
            </a:r>
            <a:br>
              <a:rPr sz="3600"/>
            </a:br>
            <a:r>
              <a:rPr b="1" lang="cs-CZ" sz="3600" spc="-1" strike="noStrike">
                <a:solidFill>
                  <a:srgbClr val="990033"/>
                </a:solidFill>
                <a:latin typeface="Arial"/>
              </a:rPr>
              <a:t>se staly pojmy, které zná většin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598920" y="24192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505320" y="29718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556080" y="29480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556080" y="29480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581280" y="297180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51320" y="2328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451320" y="261468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213000" y="27241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213000" y="24908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355920" y="28144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5920" y="28144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62120" y="1600200"/>
            <a:ext cx="1188720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yní Vám budu postupně číst různé konkrétní akce či zařízení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Vy mi prosím řekněte, zda je znáte?“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84520" y="20192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584520" y="20192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584520" y="20192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584520" y="20192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603600" y="229536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222120" y="2797200"/>
          <a:ext cx="6407280" cy="5616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2120" y="2797200"/>
                    <a:ext cx="6407280" cy="561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"/>
          <p:cNvSpPr/>
          <p:nvPr/>
        </p:nvSpPr>
        <p:spPr>
          <a:xfrm>
            <a:off x="3603600" y="229536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6518160" y="2684520"/>
          <a:ext cx="6283440" cy="5452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518160" y="2684520"/>
                    <a:ext cx="6283440" cy="545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4CB13-9712-42BC-A64A-C066E6B5A18B}" type="slidenum">
              <a:t>11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73080" y="3200040"/>
            <a:ext cx="11017440" cy="1854360"/>
          </a:xfrm>
          <a:prstGeom prst="rect">
            <a:avLst/>
          </a:prstGeom>
          <a:solidFill>
            <a:srgbClr val="fbfadd"/>
          </a:solidFill>
          <a:ln w="76320">
            <a:solidFill>
              <a:srgbClr val="990033"/>
            </a:solidFill>
            <a:miter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4800" spc="-1" strike="noStrike">
                <a:solidFill>
                  <a:srgbClr val="990033"/>
                </a:solidFill>
                <a:latin typeface="Arial"/>
              </a:rPr>
              <a:t>Vnímání nabídky v oblasti kultu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14039-B737-43DC-BEDB-294BF73A9A76}" type="slidenum">
              <a:t>12</a:t>
            </a:fld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95280" y="457200"/>
            <a:ext cx="11514240" cy="144000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cs-CZ" sz="3600" spc="-1" strike="noStrike">
                <a:solidFill>
                  <a:srgbClr val="990033"/>
                </a:solidFill>
                <a:latin typeface="Arial"/>
              </a:rPr>
              <a:t>Nabídka kultury v Praze je pestrá. </a:t>
            </a:r>
            <a:br>
              <a:rPr sz="3600"/>
            </a:br>
            <a:r>
              <a:rPr b="1" lang="cs-CZ" sz="3200" spc="-1" strike="noStrike">
                <a:solidFill>
                  <a:srgbClr val="990033"/>
                </a:solidFill>
                <a:latin typeface="Arial"/>
              </a:rPr>
              <a:t>Významný nedostatek z hlediska rozmanitosti neexistuj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98920" y="24192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505320" y="29718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556080" y="29480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556080" y="29480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581280" y="297180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451320" y="2328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451320" y="261468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213000" y="26146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13000" y="27241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213000" y="24908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355920" y="28144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355920" y="28144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28600" y="2330280"/>
            <a:ext cx="640080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yslíte si, že je nabídka kulturních pořadů a akcí v  Praze dostatečně rozmanitá?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355920" y="28144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584520" y="20192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584520" y="20192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584520" y="20192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584520" y="20192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762120" y="3276720"/>
          <a:ext cx="5873760" cy="4873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3276720"/>
                    <a:ext cx="5873760" cy="48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0" name=""/>
          <p:cNvGraphicFramePr/>
          <p:nvPr/>
        </p:nvGraphicFramePr>
        <p:xfrm>
          <a:off x="6629400" y="3200400"/>
          <a:ext cx="5873760" cy="48736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629400" y="3200400"/>
                    <a:ext cx="5873760" cy="48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2" name=""/>
          <p:cNvSpPr/>
          <p:nvPr/>
        </p:nvSpPr>
        <p:spPr>
          <a:xfrm>
            <a:off x="6705720" y="1905120"/>
            <a:ext cx="5867280" cy="15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yní mi laskavě řekněte, zda je ještě něco jiného, co Vy osobně v nabídce kulturních akcí, pořadů či v oblasti kultury a umění v Praze postrádáte?“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20280-3727-4560-B325-B8B26F4EC569}" type="slidenum">
              <a:t>13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292040" y="380880"/>
            <a:ext cx="11669400" cy="144000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cs-CZ" sz="3600" spc="-1" strike="noStrike">
                <a:solidFill>
                  <a:srgbClr val="990033"/>
                </a:solidFill>
                <a:latin typeface="Arial"/>
              </a:rPr>
              <a:t>Jak hodnotí Pražané rozsah nabídky v kultuře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598920" y="24192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603600" y="2652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603600" y="25812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598920" y="3096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598920" y="2570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603600" y="283356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236232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057400" y="281952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598920" y="8568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105520" y="32004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05320" y="29718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03600" y="3348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603600" y="3348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598920" y="204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603600" y="88092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057400" y="22860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09480" y="6019920"/>
            <a:ext cx="6477120" cy="213336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noAutofit/>
          </a:bodyPr>
          <a:p>
            <a:pPr marL="743040" indent="-743040" algn="ctr">
              <a:lnSpc>
                <a:spcPct val="100000"/>
              </a:lnSpc>
              <a:spcBef>
                <a:spcPts val="1225"/>
              </a:spcBef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abídka a poptávka v rovnová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lmová představení v klubových kine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ultimediální projek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neční a baletní představe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abídka odborných knihov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324480" y="838080"/>
            <a:ext cx="5715000" cy="12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99ff"/>
                </a:solidFill>
                <a:latin typeface="Symbol"/>
                <a:ea typeface="Symbol"/>
              </a:rPr>
              <a:t></a:t>
            </a:r>
            <a:r>
              <a:rPr b="1" lang="en-US" sz="4800" spc="-1" strike="noStrike">
                <a:solidFill>
                  <a:srgbClr val="6699ff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6699ff"/>
                </a:solidFill>
                <a:latin typeface="Arial"/>
              </a:rPr>
              <a:t>Hodnotí 60 - 70 % obyvat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09480" y="2057400"/>
            <a:ext cx="6477120" cy="3657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noAutofit/>
          </a:bodyPr>
          <a:p>
            <a:pPr marL="743040" indent="-743040" algn="ctr">
              <a:lnSpc>
                <a:spcPct val="100000"/>
              </a:lnSpc>
              <a:spcBef>
                <a:spcPts val="1225"/>
              </a:spcBef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optávka spíše vyšší než nabíd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vadelní představení pro dě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iné kulturně vzdělávací pořady pro dět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oncerty moderní alternativní hud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ředstavení alternativních divadelních scén  a klub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kce amatérských umělc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kce prezentující lidovou kultu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terární pořady, autorská čtení, pás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315200" y="2666880"/>
            <a:ext cx="5257800" cy="2819520"/>
          </a:xfrm>
          <a:prstGeom prst="rect">
            <a:avLst/>
          </a:prstGeom>
          <a:solidFill>
            <a:srgbClr val="33cc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noAutofit/>
          </a:bodyPr>
          <a:p>
            <a:pPr marL="743040" indent="-743040" algn="ctr">
              <a:lnSpc>
                <a:spcPct val="100000"/>
              </a:lnSpc>
              <a:spcBef>
                <a:spcPts val="1225"/>
              </a:spcBef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abídka a poptávka v rovnová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ředstavení klasických diva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uzeální expoz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oncerty populární hud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alerijní či jiné výstavy umě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315200" y="5791320"/>
            <a:ext cx="5257800" cy="213336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noAutofit/>
          </a:bodyPr>
          <a:p>
            <a:pPr marL="743040" indent="-743040" algn="ctr">
              <a:lnSpc>
                <a:spcPct val="100000"/>
              </a:lnSpc>
              <a:spcBef>
                <a:spcPts val="1225"/>
              </a:spcBef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abídka spíše vyšší než poptáv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lmová představení v multikinech, kine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uziká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oncerty populární hud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374960" y="1295280"/>
            <a:ext cx="5409360" cy="12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3480" rIns="123480" tIns="61560" bIns="61560" anchor="t">
            <a:spAutoFit/>
          </a:bodyPr>
          <a:p>
            <a:pPr>
              <a:lnSpc>
                <a:spcPct val="15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Hodnotí 85 - 95 % obyvatel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  </a:t>
            </a:r>
            <a:r>
              <a:rPr b="1" lang="en-US" sz="4800" spc="-1" strike="noStrike">
                <a:solidFill>
                  <a:srgbClr val="009999"/>
                </a:solidFill>
                <a:latin typeface="Symbol"/>
                <a:ea typeface="Symbol"/>
              </a:rPr>
              <a:t>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F262A-0DF8-40FD-90CB-49529EA14E07}" type="slidenum">
              <a:t>14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12504600" cy="144000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cs-CZ" sz="3600" spc="-1" strike="noStrike">
                <a:solidFill>
                  <a:srgbClr val="990033"/>
                </a:solidFill>
                <a:latin typeface="Arial"/>
              </a:rPr>
              <a:t>Příklady posuzování rozsahu nabídky </a:t>
            </a:r>
            <a:br>
              <a:rPr sz="3600"/>
            </a:br>
            <a:r>
              <a:rPr b="1" lang="cs-CZ" sz="3600" spc="-1" strike="noStrike">
                <a:solidFill>
                  <a:srgbClr val="990033"/>
                </a:solidFill>
                <a:latin typeface="Arial"/>
              </a:rPr>
              <a:t>kulturních pořadů v hlavním městě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598920" y="24192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505320" y="29718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556080" y="29480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556080" y="29480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581280" y="297180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451320" y="2328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451320" y="261468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213000" y="26146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213000" y="27241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213000" y="24908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355920" y="28144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355920" y="28144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62120" y="1905120"/>
            <a:ext cx="1143000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du Vám nyní číst nabídku jednotlivých druhů kulturních pořadů, akcí a zařízení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Vy mi, prosím, řekněte, zda máte pocit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že některých je málo,  je jich přiměřeně a nebo je jich až moc.“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55920" y="28144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809640" y="3111480"/>
          <a:ext cx="11255400" cy="4794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09640" y="3111480"/>
                    <a:ext cx="11255400" cy="479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B16C0-EC57-43DD-B188-7DBD28CF00D1}" type="slidenum">
              <a:t>15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73080" y="3200040"/>
            <a:ext cx="11017440" cy="1854360"/>
          </a:xfrm>
          <a:prstGeom prst="rect">
            <a:avLst/>
          </a:prstGeom>
          <a:solidFill>
            <a:srgbClr val="fbfadd"/>
          </a:solidFill>
          <a:ln w="76320">
            <a:solidFill>
              <a:srgbClr val="990033"/>
            </a:solidFill>
            <a:miter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4800" spc="-1" strike="noStrike">
                <a:solidFill>
                  <a:srgbClr val="990033"/>
                </a:solidFill>
                <a:latin typeface="Arial"/>
              </a:rPr>
              <a:t>Kulturní zájmy a návštěvno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3FAEB-7040-49E2-97E9-8E62F330354F}" type="slidenum">
              <a:t>16</a:t>
            </a:fld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1660680" y="25830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11895120" cy="143964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Arial"/>
              </a:rPr>
              <a:t>Hierarchie zájmu o kulturní oblasti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603600" y="2571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13160" y="261936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1676520" y="2590920"/>
          <a:ext cx="10210680" cy="5659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6520" y="2590920"/>
                    <a:ext cx="10210680" cy="565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0" name=""/>
          <p:cNvSpPr/>
          <p:nvPr/>
        </p:nvSpPr>
        <p:spPr>
          <a:xfrm>
            <a:off x="990720" y="1752480"/>
            <a:ext cx="1143000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Řekněte mi, prosím, jaký je Váš vztah k jednotlivým oblastem v kultuř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k moc se o jednotlivé kulturní akce v těchto oblastech zajímáte?“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9CA97-88AE-434A-91D3-125C514B0672}" type="slidenum">
              <a:t>17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1660680" y="25830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523880" y="347400"/>
            <a:ext cx="11149200" cy="143964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Zájem generací o jednotlivé druhy umění je různý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603600" y="2571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98920" y="2570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903320" y="12715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903320" y="12715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903320" y="12715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903320" y="12715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903320" y="176220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570120" y="24382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2286000" y="2438280"/>
          <a:ext cx="8991720" cy="5813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0" y="2438280"/>
                    <a:ext cx="8991720" cy="581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3" name=""/>
          <p:cNvSpPr/>
          <p:nvPr/>
        </p:nvSpPr>
        <p:spPr>
          <a:xfrm>
            <a:off x="990720" y="1752480"/>
            <a:ext cx="1143000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ájem o jednotlivé kulturní oblasti podle věk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čet odpovědí „Velmi se zajímám“ + „Poměrně se zajímám“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86B05-B63D-4F7F-9EBB-556309C3DCE9}" type="slidenum">
              <a:t>18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292040" y="380880"/>
            <a:ext cx="11669400" cy="144000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cs-CZ" sz="3600" spc="-1" strike="noStrike">
                <a:solidFill>
                  <a:srgbClr val="990033"/>
                </a:solidFill>
                <a:latin typeface="Arial"/>
              </a:rPr>
              <a:t>Jak často vyrazí Pražané za kulturou?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598920" y="24192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603600" y="2652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603600" y="25812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598920" y="3096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598920" y="2570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603600" y="283356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886200" y="236232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057400" y="281952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598920" y="8568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105520" y="32004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05320" y="29718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603600" y="3348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603600" y="3348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598920" y="204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603600" y="88092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057400" y="22860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295280" y="3200400"/>
            <a:ext cx="11049120" cy="205740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noAutofit/>
          </a:bodyPr>
          <a:p>
            <a:pPr marL="743040" indent="-74304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uzikálová představe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oncerty populární hud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lubová kina, filmové klu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derní alternativní divadelní scény, klu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oncerty klasické hud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295280" y="5410080"/>
            <a:ext cx="11049120" cy="28195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noAutofit/>
          </a:bodyPr>
          <a:p>
            <a:pPr marL="743040" indent="-74304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dborné knihov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oncerty moderní alternativní hud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kce amatérských umělc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kce prezentující lidovou kultu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terární kluby, pásma, več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vadelní a jiné kulturně vzdělávací programy pro dě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ultimediální projekty, taneční a baletní představe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064280" y="3276720"/>
            <a:ext cx="741600" cy="12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3480" rIns="123480" tIns="61560" bIns="61560" anchor="t">
            <a:spAutoFit/>
          </a:bodyPr>
          <a:p>
            <a:pPr>
              <a:lnSpc>
                <a:spcPct val="15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ymbol"/>
                <a:ea typeface="Symbol"/>
              </a:rPr>
              <a:t>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295280" y="1371600"/>
            <a:ext cx="11049120" cy="167652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noAutofit/>
          </a:bodyPr>
          <a:p>
            <a:pPr marL="743040" indent="-74304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ultikina, k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eřejné knihovny, muz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lasická divadelní představe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alerie či výstavy výtvarného umě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7850520" y="1701720"/>
            <a:ext cx="449352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3480" rIns="123480" tIns="61560" bIns="615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íce než polov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inimálně  jednou za r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064280" y="5940360"/>
            <a:ext cx="910800" cy="12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3480" rIns="123480" tIns="61560" bIns="61560" anchor="t">
            <a:spAutoFit/>
          </a:bodyPr>
          <a:p>
            <a:pPr>
              <a:lnSpc>
                <a:spcPct val="15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ymbol"/>
                <a:ea typeface="Symbol"/>
              </a:rPr>
              <a:t>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7010280" y="1447920"/>
            <a:ext cx="1067040" cy="12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>
              <a:lnSpc>
                <a:spcPct val="15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ymbol"/>
                <a:ea typeface="Symbol"/>
              </a:rPr>
              <a:t>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8230680" y="6257880"/>
            <a:ext cx="342828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3480" rIns="123480" tIns="61560" bIns="615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íce než polovina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ůbec nik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850520" y="3683160"/>
            <a:ext cx="449352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3480" rIns="123480" tIns="61560" bIns="615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5 – 45 %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inimálně  jednou za r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5D848-635C-4530-9DB6-435E849BF794}" type="slidenum">
              <a:t>19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73080" y="3200040"/>
            <a:ext cx="11017440" cy="1854360"/>
          </a:xfrm>
          <a:prstGeom prst="rect">
            <a:avLst/>
          </a:prstGeom>
          <a:solidFill>
            <a:srgbClr val="fbfadd"/>
          </a:solidFill>
          <a:ln w="76320">
            <a:solidFill>
              <a:srgbClr val="990033"/>
            </a:solidFill>
            <a:miter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990033"/>
                </a:solidFill>
                <a:latin typeface="Arial"/>
              </a:rPr>
              <a:t>Základní informace o výzkumu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446A3-11D9-4AF7-BCB2-3E56E6A8A4F7}" type="slidenum">
              <a:t>2</a:t>
            </a:fld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219320" y="457200"/>
            <a:ext cx="11742480" cy="144000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cs-CZ" sz="3600" spc="-1" strike="noStrike">
                <a:solidFill>
                  <a:srgbClr val="990033"/>
                </a:solidFill>
                <a:latin typeface="Arial"/>
              </a:rPr>
              <a:t>Příklady návštěvnosti kulturních pořadů a zařízení </a:t>
            </a:r>
            <a:br>
              <a:rPr sz="3600"/>
            </a:br>
            <a:r>
              <a:rPr b="1" lang="cs-CZ" sz="3600" spc="-1" strike="noStrike">
                <a:solidFill>
                  <a:srgbClr val="990033"/>
                </a:solidFill>
                <a:latin typeface="Arial"/>
              </a:rPr>
              <a:t>mezi obyvateli Prahy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598920" y="24192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505320" y="29718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556080" y="29480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556080" y="29480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581280" y="297180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51320" y="2328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451320" y="261468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213000" y="26146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213000" y="27241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213000" y="24908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355920" y="28144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355920" y="28144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62120" y="2041560"/>
            <a:ext cx="1143000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amyslete se, prosím, nad letošním rokem a řekněte mi, jak často obvyk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ednotlivé kulturní akce či zařízení navštěvujete.“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355920" y="28144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5" name=""/>
          <p:cNvGraphicFramePr/>
          <p:nvPr/>
        </p:nvGraphicFramePr>
        <p:xfrm>
          <a:off x="809640" y="3111480"/>
          <a:ext cx="11255400" cy="4572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6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09640" y="3111480"/>
                    <a:ext cx="1125540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85A38-9681-4F1D-A4A7-F4C56C03AAC0}" type="slidenum">
              <a:t>20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73080" y="3200040"/>
            <a:ext cx="11017440" cy="1854360"/>
          </a:xfrm>
          <a:prstGeom prst="rect">
            <a:avLst/>
          </a:prstGeom>
          <a:solidFill>
            <a:srgbClr val="fbfadd"/>
          </a:solidFill>
          <a:ln w="76320">
            <a:solidFill>
              <a:srgbClr val="990033"/>
            </a:solidFill>
            <a:miter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4800" spc="-1" strike="noStrike">
                <a:solidFill>
                  <a:srgbClr val="990033"/>
                </a:solidFill>
                <a:latin typeface="Arial"/>
              </a:rPr>
              <a:t>Bariéry účasti na kulturním životě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5E992-91D4-42E5-BA5D-F78A30825DBA}" type="slidenum">
              <a:t>21</a:t>
            </a:fld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1660680" y="25830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218960" y="380880"/>
            <a:ext cx="11529720" cy="144000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Ne každý může za kulturou, jak by chtěl. </a:t>
            </a:r>
            <a:br>
              <a:rPr sz="3600"/>
            </a:b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Lidé tvrdí, že „chybí“ volný čas nebo peníze.</a:t>
            </a: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603600" y="2571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793880" y="19382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93880" y="19382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793880" y="19382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793880" y="212868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838080" y="7696080"/>
            <a:ext cx="110491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6" name=""/>
          <p:cNvGraphicFramePr/>
          <p:nvPr/>
        </p:nvGraphicFramePr>
        <p:xfrm>
          <a:off x="6492960" y="3098880"/>
          <a:ext cx="6143400" cy="4444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7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492960" y="3098880"/>
                    <a:ext cx="6143400" cy="444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8" name=""/>
          <p:cNvSpPr/>
          <p:nvPr/>
        </p:nvSpPr>
        <p:spPr>
          <a:xfrm>
            <a:off x="6324480" y="1981080"/>
            <a:ext cx="6553440" cy="15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kud u Vás převládá pocit, že nemůžete navštěvovat různé kulturní akce a zařízení tak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k byste chtěl(a), co je podle Vá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obvykle hlavním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ůvodem?“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4"/>
          <a:stretch/>
        </p:blipFill>
        <p:spPr>
          <a:xfrm>
            <a:off x="380880" y="3014640"/>
            <a:ext cx="5639040" cy="467856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>
            <a:off x="228600" y="2057400"/>
            <a:ext cx="609588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dyž to vezmeme všechno dohromady, můžete se návštěvám různých kulturních akcí a zařízení věnovat tak, jak byste chtěl(a):“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A8F1D-8ED9-4012-8868-8DDA5E88584D}" type="slidenum">
              <a:t>22</a:t>
            </a:fld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1660680" y="25830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523880" y="347400"/>
            <a:ext cx="11149200" cy="143964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Drahá připadají lidem kina, divadla, koncerty.</a:t>
            </a:r>
            <a:br>
              <a:rPr sz="3600"/>
            </a:b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Pro většinu lidí není problém místo konání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603600" y="2571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598920" y="2570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903320" y="12715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903320" y="12715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903320" y="12715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903320" y="12715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903320" y="176220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036880" y="18288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036880" y="18288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284640" y="23814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1682640" y="3048120"/>
          <a:ext cx="10302840" cy="5175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9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82640" y="3048120"/>
                    <a:ext cx="10302840" cy="517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5" name=""/>
          <p:cNvSpPr/>
          <p:nvPr/>
        </p:nvSpPr>
        <p:spPr>
          <a:xfrm>
            <a:off x="533520" y="1905120"/>
            <a:ext cx="1219176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k hodnotíte dosažitelnost a cenovou přijatelnost následujících kulturních zařízení v Praze? Pokud jde o jejich dosažitelnost z místa, kde bydlí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kud jde o jejich cenovou přijatelnost.“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1A25A-0795-4C47-B527-11D1F0EE4DAD}" type="slidenum">
              <a:t>23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1660680" y="25830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523880" y="347400"/>
            <a:ext cx="11149200" cy="143964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Nejstarší generace má problémy:</a:t>
            </a:r>
            <a:br>
              <a:rPr sz="3600"/>
            </a:b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dostupné jsou pro většinu z nich jen knihovn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603600" y="2571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598920" y="2570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903320" y="12715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903320" y="12715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903320" y="12715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1903320" y="12715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903320" y="176220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36880" y="18288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284640" y="23814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1371600" y="1828800"/>
            <a:ext cx="1120140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k hodnotíte dosažitelnost a cenovou přijatelnost následujících kulturních zařízení v Praze? Pokud jde o jejich cenovou přijatelnost.“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Součet odpovědí „Zcela přijatelné + „Spíše přijatelné“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3456000" y="22622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9" name=""/>
          <p:cNvGraphicFramePr/>
          <p:nvPr/>
        </p:nvGraphicFramePr>
        <p:xfrm>
          <a:off x="1984320" y="2971800"/>
          <a:ext cx="9445680" cy="5413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1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84320" y="2971800"/>
                    <a:ext cx="9445680" cy="541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D28C3-742C-49A1-8D51-7198894F1E35}" type="slidenum">
              <a:t>24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973080" y="3200400"/>
            <a:ext cx="11017440" cy="1854360"/>
          </a:xfrm>
          <a:prstGeom prst="rect">
            <a:avLst/>
          </a:prstGeom>
          <a:solidFill>
            <a:srgbClr val="fbfadd"/>
          </a:solidFill>
          <a:ln w="7632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ctr">
            <a:noAutofit/>
          </a:bodyPr>
          <a:p>
            <a:pPr algn="ctr"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4800" spc="-1" strike="noStrike">
                <a:solidFill>
                  <a:srgbClr val="990033"/>
                </a:solidFill>
                <a:latin typeface="Arial"/>
              </a:rPr>
              <a:t>Shrnutí a závě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0325D-3A07-4BA9-882F-53CDA1E83685}" type="slidenum">
              <a:t>25</a:t>
            </a:fld>
          </a:p>
        </p:txBody>
      </p:sp>
    </p:spTree>
  </p:cSld>
  <p:transition>
    <p:wipe dir="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676520" y="761760"/>
            <a:ext cx="10515600" cy="1439640"/>
          </a:xfrm>
          <a:prstGeom prst="rect">
            <a:avLst/>
          </a:prstGeom>
          <a:solidFill>
            <a:srgbClr val="99ccff">
              <a:alpha val="50000"/>
            </a:srgbClr>
          </a:solidFill>
          <a:ln w="38160">
            <a:solidFill>
              <a:srgbClr val="9f1b3a"/>
            </a:solidFill>
            <a:miter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0" lang="en-US" sz="4800" spc="-1" strike="noStrike">
                <a:solidFill>
                  <a:srgbClr val="6d1543"/>
                </a:solidFill>
                <a:latin typeface="Arial"/>
              </a:rPr>
              <a:t>Praha jako kulturní centrum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1066680" y="3429000"/>
            <a:ext cx="11277720" cy="1752480"/>
          </a:xfrm>
          <a:prstGeom prst="rect">
            <a:avLst/>
          </a:prstGeom>
          <a:solidFill>
            <a:srgbClr val="ffffff">
              <a:alpha val="50000"/>
            </a:srgbClr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noAutofit/>
          </a:bodyPr>
          <a:p>
            <a:pPr marL="743040" indent="-743040">
              <a:lnSpc>
                <a:spcPct val="115000"/>
              </a:lnSpc>
              <a:spcBef>
                <a:spcPts val="2137"/>
              </a:spcBef>
              <a:buClr>
                <a:srgbClr val="000000"/>
              </a:buClr>
              <a:buFont typeface="Arial"/>
              <a:buChar char="•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Pražané řadí Prahu mezi nejvýznamnější evropská kulturní centra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buClr>
                <a:srgbClr val="000000"/>
              </a:buClr>
              <a:buFont typeface="Arial"/>
              <a:buChar char="•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066680" y="5943600"/>
            <a:ext cx="11277720" cy="1752480"/>
          </a:xfrm>
          <a:prstGeom prst="rect">
            <a:avLst/>
          </a:prstGeom>
          <a:solidFill>
            <a:srgbClr val="ffffff">
              <a:alpha val="50000"/>
            </a:srgbClr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noAutofit/>
          </a:bodyPr>
          <a:p>
            <a:pPr marL="743040" indent="-743040">
              <a:lnSpc>
                <a:spcPct val="115000"/>
              </a:lnSpc>
              <a:spcBef>
                <a:spcPts val="2137"/>
              </a:spcBef>
              <a:buClr>
                <a:srgbClr val="000000"/>
              </a:buClr>
              <a:buFont typeface="Arial"/>
              <a:buChar char="•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Obyvatelé města oceňují možnosti v oblasti kultury jako jednu z největší předností</a:t>
            </a:r>
            <a:r>
              <a:rPr b="1" lang="en-US" sz="38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BBC98-DC41-4EA9-9EB7-6429282C314A}" type="slidenum">
              <a:t>26</a:t>
            </a:fld>
          </a:p>
        </p:txBody>
      </p:sp>
    </p:spTree>
  </p:cSld>
  <p:transition>
    <p:wipe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676520" y="761760"/>
            <a:ext cx="10515600" cy="1439640"/>
          </a:xfrm>
          <a:prstGeom prst="rect">
            <a:avLst/>
          </a:prstGeom>
          <a:solidFill>
            <a:srgbClr val="99ccff">
              <a:alpha val="50000"/>
            </a:srgbClr>
          </a:solidFill>
          <a:ln w="38160">
            <a:solidFill>
              <a:srgbClr val="9f1b3a"/>
            </a:solidFill>
            <a:miter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0" lang="en-US" sz="4800" spc="-1" strike="noStrike">
                <a:solidFill>
                  <a:srgbClr val="6d1543"/>
                </a:solidFill>
                <a:latin typeface="Arial"/>
              </a:rPr>
              <a:t>Praha jako kulturní centrum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066680" y="3429000"/>
            <a:ext cx="11277720" cy="1676520"/>
          </a:xfrm>
          <a:prstGeom prst="rect">
            <a:avLst/>
          </a:prstGeom>
          <a:solidFill>
            <a:srgbClr val="ffffff">
              <a:alpha val="50000"/>
            </a:srgbClr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noAutofit/>
          </a:bodyPr>
          <a:p>
            <a:pPr marL="743040" indent="-743040">
              <a:lnSpc>
                <a:spcPct val="115000"/>
              </a:lnSpc>
              <a:spcBef>
                <a:spcPts val="2137"/>
              </a:spcBef>
              <a:buClr>
                <a:srgbClr val="000000"/>
              </a:buClr>
              <a:buFont typeface="Arial"/>
              <a:buChar char="•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Informace o kulturní nabídce v Praze nescházejí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066680" y="5943600"/>
            <a:ext cx="11277720" cy="1676520"/>
          </a:xfrm>
          <a:prstGeom prst="rect">
            <a:avLst/>
          </a:prstGeom>
          <a:solidFill>
            <a:srgbClr val="ffffff">
              <a:alpha val="50000"/>
            </a:srgbClr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noAutofit/>
          </a:bodyPr>
          <a:p>
            <a:pPr marL="743040" indent="-743040">
              <a:lnSpc>
                <a:spcPct val="115000"/>
              </a:lnSpc>
              <a:spcBef>
                <a:spcPts val="2137"/>
              </a:spcBef>
              <a:buClr>
                <a:srgbClr val="000000"/>
              </a:buClr>
              <a:buFont typeface="Arial"/>
              <a:buChar char="•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Kulturní život v hlavním městě nemá zásadní omezení na straně nabídky.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14CF0-2BCC-465D-9DF7-03411FDF7C6B}" type="slidenum">
              <a:t>27</a:t>
            </a:fld>
          </a:p>
        </p:txBody>
      </p:sp>
    </p:spTree>
  </p:cSld>
  <p:transition>
    <p:wipe dir="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676520" y="761760"/>
            <a:ext cx="10515600" cy="1439640"/>
          </a:xfrm>
          <a:prstGeom prst="rect">
            <a:avLst/>
          </a:prstGeom>
          <a:solidFill>
            <a:srgbClr val="99ccff">
              <a:alpha val="50000"/>
            </a:srgbClr>
          </a:solidFill>
          <a:ln w="38160">
            <a:solidFill>
              <a:srgbClr val="9f1b3a"/>
            </a:solidFill>
            <a:miter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0" lang="en-US" sz="4800" spc="-1" strike="noStrike">
                <a:solidFill>
                  <a:srgbClr val="6d1543"/>
                </a:solidFill>
                <a:latin typeface="Arial"/>
              </a:rPr>
              <a:t>Projekce kulturní „spotřeby“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066680" y="3352680"/>
            <a:ext cx="11277720" cy="1828800"/>
          </a:xfrm>
          <a:prstGeom prst="rect">
            <a:avLst/>
          </a:prstGeom>
          <a:solidFill>
            <a:srgbClr val="ffffff">
              <a:alpha val="50000"/>
            </a:srgbClr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noAutofit/>
          </a:bodyPr>
          <a:p>
            <a:pPr marL="743040" indent="-743040">
              <a:lnSpc>
                <a:spcPct val="115000"/>
              </a:lnSpc>
              <a:spcBef>
                <a:spcPts val="224"/>
              </a:spcBef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15000"/>
              </a:lnSpc>
              <a:spcBef>
                <a:spcPts val="1851"/>
              </a:spcBef>
              <a:buClr>
                <a:srgbClr val="000000"/>
              </a:buClr>
              <a:buFont typeface="Arial"/>
              <a:buChar char="•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  <a:ea typeface="Times New Roman"/>
              </a:rPr>
              <a:t>ezi Pra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  <a:ea typeface="Times New Roman"/>
              </a:rPr>
              <a:t>any 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nedojde v horizontu 15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  <a:ea typeface="Times New Roman"/>
              </a:rPr>
              <a:t> let 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v oblasti kulturních zájmů a potřeb k významným změnám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1066680" y="5867280"/>
            <a:ext cx="11277720" cy="1828800"/>
          </a:xfrm>
          <a:prstGeom prst="rect">
            <a:avLst/>
          </a:prstGeom>
          <a:solidFill>
            <a:srgbClr val="ffffff">
              <a:alpha val="50000"/>
            </a:srgbClr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noAutofit/>
          </a:bodyPr>
          <a:p>
            <a:pPr marL="743040" indent="-743040">
              <a:lnSpc>
                <a:spcPct val="115000"/>
              </a:lnSpc>
              <a:spcBef>
                <a:spcPts val="224"/>
              </a:spcBef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15000"/>
              </a:lnSpc>
              <a:spcBef>
                <a:spcPts val="1738"/>
              </a:spcBef>
              <a:buClr>
                <a:srgbClr val="000000"/>
              </a:buClr>
              <a:buFont typeface="Arial"/>
              <a:buChar char="•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  <a:ea typeface="Times New Roman"/>
              </a:rPr>
              <a:t>ojde k p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ř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  <a:ea typeface="Times New Roman"/>
              </a:rPr>
              <a:t>ek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ř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  <a:ea typeface="Times New Roman"/>
              </a:rPr>
              <a:t>í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  <a:ea typeface="Times New Roman"/>
              </a:rPr>
              <a:t>ení vlivu demografického stárnutí a zlepšující se úrovn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ě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  <a:ea typeface="Times New Roman"/>
              </a:rPr>
              <a:t> celkové vzd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ě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  <a:ea typeface="Times New Roman"/>
              </a:rPr>
              <a:t>lanosti Pra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  <a:ea typeface="Times New Roman"/>
              </a:rPr>
              <a:t>an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ů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B9DDD-3B2B-45AE-956E-963315E35755}" type="slidenum">
              <a:t>28</a:t>
            </a:fld>
          </a:p>
        </p:txBody>
      </p:sp>
    </p:spTree>
  </p:cSld>
  <p:transition>
    <p:wipe dir="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676520" y="761760"/>
            <a:ext cx="10515600" cy="1439640"/>
          </a:xfrm>
          <a:prstGeom prst="rect">
            <a:avLst/>
          </a:prstGeom>
          <a:solidFill>
            <a:srgbClr val="99ccff">
              <a:alpha val="50000"/>
            </a:srgbClr>
          </a:solidFill>
          <a:ln w="38160">
            <a:solidFill>
              <a:srgbClr val="9f1b3a"/>
            </a:solidFill>
            <a:miter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0" lang="en-US" sz="4800" spc="-1" strike="noStrike">
                <a:solidFill>
                  <a:srgbClr val="6d1543"/>
                </a:solidFill>
                <a:latin typeface="Arial"/>
              </a:rPr>
              <a:t>Projekce kulturní „spotřeby“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1143000" y="3276720"/>
            <a:ext cx="11125080" cy="1904760"/>
          </a:xfrm>
          <a:prstGeom prst="rect">
            <a:avLst/>
          </a:prstGeom>
          <a:solidFill>
            <a:srgbClr val="ffffff">
              <a:alpha val="50000"/>
            </a:srgbClr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noAutofit/>
          </a:bodyPr>
          <a:p>
            <a:pPr marL="743040" indent="-743040">
              <a:lnSpc>
                <a:spcPct val="115000"/>
              </a:lnSpc>
              <a:spcBef>
                <a:spcPts val="224"/>
              </a:spcBef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15000"/>
              </a:lnSpc>
              <a:spcBef>
                <a:spcPts val="1962"/>
              </a:spcBef>
              <a:buClr>
                <a:srgbClr val="000000"/>
              </a:buClr>
              <a:buFont typeface="Arial"/>
              <a:buChar char="•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Mírné ne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  <a:ea typeface="Times New Roman"/>
              </a:rPr>
              <a:t>dostatk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y ve struktuře nabídky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  <a:ea typeface="Times New Roman"/>
              </a:rPr>
              <a:t> se sice výrazn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ě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  <a:ea typeface="Times New Roman"/>
              </a:rPr>
              <a:t> neprohloubí, avšak ani neustoupí.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1143000" y="5791320"/>
            <a:ext cx="11125080" cy="1904760"/>
          </a:xfrm>
          <a:prstGeom prst="rect">
            <a:avLst/>
          </a:prstGeom>
          <a:solidFill>
            <a:srgbClr val="ffffff">
              <a:alpha val="50000"/>
            </a:srgbClr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noAutofit/>
          </a:bodyPr>
          <a:p>
            <a:pPr marL="743040" indent="-743040">
              <a:lnSpc>
                <a:spcPct val="115000"/>
              </a:lnSpc>
              <a:spcBef>
                <a:spcPts val="1851"/>
              </a:spcBef>
              <a:buClr>
                <a:srgbClr val="000000"/>
              </a:buClr>
              <a:buFont typeface="Arial"/>
              <a:buChar char="•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Rozvírání nůžek mezi lidmi s větším a menším zájmem o kulturu může způsobit nepříznivý ekonomický vývoj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15000"/>
              </a:lnSpc>
              <a:spcBef>
                <a:spcPts val="1851"/>
              </a:spcBef>
              <a:buClr>
                <a:srgbClr val="000000"/>
              </a:buClr>
              <a:buFont typeface="Arial"/>
              <a:buChar char="•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DED05-AE9E-4FB4-AC8A-7F8FCCD49104}" type="slidenum">
              <a:t>29</a:t>
            </a:fld>
          </a:p>
        </p:txBody>
      </p:sp>
    </p:spTree>
  </p:cSld>
  <p:transition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766800"/>
            <a:ext cx="11950560" cy="710712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marL="1143000" indent="0">
              <a:spcAft>
                <a:spcPts val="1400"/>
              </a:spcAft>
              <a:buNone/>
              <a:tabLst>
                <a:tab algn="l" pos="0"/>
                <a:tab algn="l" pos="1339920"/>
                <a:tab algn="l" pos="2679840"/>
                <a:tab algn="l" pos="4019400"/>
                <a:tab algn="l" pos="5359320"/>
                <a:tab algn="l" pos="6699240"/>
                <a:tab algn="l" pos="8039160"/>
                <a:tab algn="l" pos="9379080"/>
                <a:tab algn="l" pos="1071864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yp výzkumu: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kvantitativní  reprezentativních šet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ř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ní</a:t>
            </a:r>
            <a:br>
              <a:rPr sz="2800"/>
            </a:br>
            <a:br>
              <a:rPr sz="2800"/>
            </a:b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ílová skupina: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obyvatelé Prahy starší 15 let</a:t>
            </a:r>
            <a:br>
              <a:rPr sz="2800"/>
            </a:b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br>
              <a:rPr sz="2800"/>
            </a:b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Metoda výzkumu: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kvótní výb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ě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r podle kritérií pohlaví,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v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ě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ku, vzd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ě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lání a m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ě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tských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ástí</a:t>
            </a:r>
            <a:br>
              <a:rPr sz="2800"/>
            </a:br>
            <a:r>
              <a:rPr b="1" lang="cs-CZ" sz="2800" spc="-1" strike="noStrike">
                <a:solidFill>
                  <a:srgbClr val="ff6600"/>
                </a:solidFill>
                <a:latin typeface="Arial"/>
                <a:ea typeface="Times New Roman"/>
              </a:rPr>
              <a:t> </a:t>
            </a:r>
            <a:br>
              <a:rPr sz="2800"/>
            </a:b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echnika dotazování: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tandardizované osobní rozhovory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provedené školenými tazateli STEM</a:t>
            </a:r>
            <a:br>
              <a:rPr sz="2800"/>
            </a:b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br>
              <a:rPr sz="2800"/>
            </a:b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ermín výzkumu: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22.11. – 2.12. 2004</a:t>
            </a:r>
            <a:br>
              <a:rPr sz="2800"/>
            </a:br>
            <a:r>
              <a:rPr b="1" lang="cs-CZ" sz="2800" spc="-1" strike="noStrike">
                <a:solidFill>
                  <a:srgbClr val="ff6600"/>
                </a:solidFill>
                <a:latin typeface="Arial"/>
                <a:ea typeface="Times New Roman"/>
              </a:rPr>
              <a:t> </a:t>
            </a:r>
            <a:br>
              <a:rPr sz="2800"/>
            </a:b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Výsledný soubor: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850 respondent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1EBFF-DD20-42E7-867F-8194AE58F775}" type="slidenum">
              <a:t>3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660033"/>
            </a:gs>
            <a:gs pos="50000">
              <a:srgbClr val="8c043b"/>
            </a:gs>
            <a:gs pos="100000">
              <a:srgbClr val="6600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447560" y="5638680"/>
            <a:ext cx="10591560" cy="2438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4800" spc="-1" strike="noStrike">
                <a:solidFill>
                  <a:srgbClr val="f8f0cc"/>
                </a:solidFill>
                <a:latin typeface="Arial"/>
              </a:rPr>
              <a:t>Přejeme mnoho úspěchů </a:t>
            </a:r>
            <a:br>
              <a:rPr sz="4800"/>
            </a:br>
            <a:r>
              <a:rPr b="1" lang="en-US" sz="4800" spc="-1" strike="noStrike">
                <a:solidFill>
                  <a:srgbClr val="f8f0cc"/>
                </a:solidFill>
                <a:latin typeface="Arial"/>
              </a:rPr>
              <a:t>a děkujeme za pozorno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STEM" descr=""/>
          <p:cNvPicPr/>
          <p:nvPr/>
        </p:nvPicPr>
        <p:blipFill>
          <a:blip r:embed="rId1"/>
          <a:stretch/>
        </p:blipFill>
        <p:spPr>
          <a:xfrm>
            <a:off x="4572000" y="762120"/>
            <a:ext cx="3597120" cy="3962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9EC42-0EDD-4B55-AD96-6CDC97A95D1D}" type="slidenum">
              <a:t>30</a:t>
            </a:fld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76520" y="761760"/>
            <a:ext cx="10515600" cy="1439640"/>
          </a:xfrm>
          <a:prstGeom prst="rect">
            <a:avLst/>
          </a:prstGeom>
          <a:solidFill>
            <a:srgbClr val="99ccff">
              <a:alpha val="50000"/>
            </a:srgbClr>
          </a:solidFill>
          <a:ln w="38160">
            <a:solidFill>
              <a:srgbClr val="9f1b3a"/>
            </a:solidFill>
            <a:miter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0" lang="en-US" sz="4800" spc="-1" strike="noStrike">
                <a:solidFill>
                  <a:srgbClr val="6d1543"/>
                </a:solidFill>
                <a:latin typeface="Arial"/>
              </a:rPr>
              <a:t>Pražané a kultur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638360" y="2666880"/>
            <a:ext cx="10553760" cy="5105520"/>
          </a:xfrm>
          <a:prstGeom prst="rect">
            <a:avLst/>
          </a:prstGeom>
          <a:solidFill>
            <a:srgbClr val="ffffff">
              <a:alpha val="50000"/>
            </a:srgbClr>
          </a:solidFill>
          <a:ln w="38160">
            <a:solidFill>
              <a:srgbClr val="000080"/>
            </a:solidFill>
            <a:miter/>
          </a:ln>
        </p:spPr>
        <p:txBody>
          <a:bodyPr lIns="123480" rIns="123480" tIns="61560" bIns="61560" anchor="t">
            <a:normAutofit/>
          </a:bodyPr>
          <a:p>
            <a:pPr marL="743040" indent="-743040">
              <a:lnSpc>
                <a:spcPct val="150000"/>
              </a:lnSpc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Jaké je místo kultury v životě Pražanů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50000"/>
              </a:lnSpc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Jsou Pražané v oblasti kultury informovaní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50000"/>
              </a:lnSpc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Je nabídka kultury dostatečně rozmanitá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50000"/>
              </a:lnSpc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 Pražany v kultuře zajímá a kam chodí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Změní se v nejbližších letech potřeby veřejnosti   v oblasti kultu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C426A-CF0F-42FF-ACD4-E4EF21DA03BB}" type="slidenum">
              <a:t>4</a:t>
            </a:fld>
          </a:p>
        </p:txBody>
      </p:sp>
    </p:spTree>
  </p:cSld>
  <p:transition>
    <p:wipe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73080" y="3200040"/>
            <a:ext cx="11017440" cy="1854360"/>
          </a:xfrm>
          <a:prstGeom prst="rect">
            <a:avLst/>
          </a:prstGeom>
          <a:solidFill>
            <a:srgbClr val="fbfadd"/>
          </a:solidFill>
          <a:ln w="76320">
            <a:solidFill>
              <a:srgbClr val="990033"/>
            </a:solidFill>
            <a:miter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4800" spc="-1" strike="noStrike">
                <a:solidFill>
                  <a:srgbClr val="990033"/>
                </a:solidFill>
                <a:latin typeface="Arial"/>
              </a:rPr>
              <a:t>Místo kultury v životě Pražanů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E2D93-D9DF-4446-B379-378A8F3B50ED}" type="slidenum">
              <a:t>5</a:t>
            </a:fld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660680" y="25830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11441160" cy="143964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Kultura není v životním stylu Pražanů prioritou.</a:t>
            </a:r>
            <a:r>
              <a:rPr b="1" lang="en-US" sz="4000" spc="-1" strike="noStrike">
                <a:solidFill>
                  <a:srgbClr val="990033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603600" y="2571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13160" y="261936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990720" y="1752480"/>
            <a:ext cx="1143000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hlédněte si, prosím, seznam životních stylů a vyberte postupně tři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teré jsou Vám nejbližší. Stanovte pořadí.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579840" y="23144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2362320" y="2438280"/>
          <a:ext cx="8610480" cy="5953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362320" y="2438280"/>
                    <a:ext cx="8610480" cy="595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F76AF-8803-4F4F-9F72-6FB79464B0F8}" type="slidenum">
              <a:t>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660680" y="25830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18960" y="380880"/>
            <a:ext cx="11529720" cy="144000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Těsnější vazbu ke kultuře </a:t>
            </a:r>
            <a:br>
              <a:rPr sz="3600"/>
            </a:b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má jen poměrně malý podíl Pražanů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603600" y="2571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793880" y="19382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793880" y="19382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793880" y="19382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793880" y="212868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38080" y="7696080"/>
            <a:ext cx="110491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905120"/>
            <a:ext cx="601992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dyž se srovnáte s jinými lidmi Vašeho věku, jak často ve srovnání s nimi navštěvujete různé kulturní akce a zařízení?“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422600" y="278136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579840" y="261936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533520" y="3200400"/>
          <a:ext cx="5029200" cy="4321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520" y="3200400"/>
                    <a:ext cx="5029200" cy="432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380880" y="2209680"/>
            <a:ext cx="541044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olupodílel(a) jste se v posledním roce na nějaké kulturní akci, projektu:“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6400800" y="3124080"/>
          <a:ext cx="5873760" cy="48736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400800" y="3124080"/>
                    <a:ext cx="5873760" cy="48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A2A66-66C9-4B3C-B22E-B4A1F154654F}" type="slidenum">
              <a:t>7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73080" y="3200040"/>
            <a:ext cx="11017440" cy="1854360"/>
          </a:xfrm>
          <a:prstGeom prst="rect">
            <a:avLst/>
          </a:prstGeom>
          <a:solidFill>
            <a:srgbClr val="fbfadd"/>
          </a:solidFill>
          <a:ln w="76320">
            <a:solidFill>
              <a:srgbClr val="990033"/>
            </a:solidFill>
            <a:miter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4800" spc="-1" strike="noStrike">
                <a:solidFill>
                  <a:srgbClr val="990033"/>
                </a:solidFill>
                <a:latin typeface="Arial"/>
              </a:rPr>
              <a:t>Informovanost o kultuř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3EC4F-FAC5-4856-AB87-A1D9B2F9843F}" type="slidenum">
              <a:t>8</a:t>
            </a:fld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600200" y="457200"/>
            <a:ext cx="11049120" cy="144000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cs-CZ" sz="3600" spc="-1" strike="noStrike">
                <a:solidFill>
                  <a:srgbClr val="990033"/>
                </a:solidFill>
                <a:latin typeface="Arial"/>
              </a:rPr>
              <a:t>Informací o kulturní nabídce je dost.</a:t>
            </a:r>
            <a:br>
              <a:rPr sz="3600"/>
            </a:br>
            <a:r>
              <a:rPr b="1" lang="cs-CZ" sz="3600" spc="-1" strike="noStrike">
                <a:solidFill>
                  <a:srgbClr val="990033"/>
                </a:solidFill>
                <a:latin typeface="Arial"/>
              </a:rPr>
              <a:t>V</a:t>
            </a:r>
            <a:r>
              <a:rPr b="1" lang="cs-CZ" sz="3200" spc="-1" strike="noStrike">
                <a:solidFill>
                  <a:srgbClr val="990033"/>
                </a:solidFill>
                <a:latin typeface="Arial"/>
              </a:rPr>
              <a:t>ětšina Pražanů si myslí, že má dostatečný přehl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98920" y="24192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505320" y="29718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556080" y="29480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556080" y="29480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581280" y="297180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451320" y="2328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451320" y="261468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213000" y="26146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13000" y="27241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213000" y="24908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355920" y="28144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355920" y="28144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224080"/>
            <a:ext cx="640080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e podle Vás snadné získat dostatek informací o kulturní nabídce v hlavním městě?“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355920" y="28144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05720" y="2254320"/>
            <a:ext cx="586728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yslíte si, že máte dostatečný přehl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 nabídce kultury v Praze?“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584520" y="20192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584520" y="20192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584520" y="20192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584520" y="20192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762120" y="3276720"/>
          <a:ext cx="5873760" cy="4873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3276720"/>
                    <a:ext cx="5873760" cy="48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7" name=""/>
          <p:cNvGraphicFramePr/>
          <p:nvPr/>
        </p:nvGraphicFramePr>
        <p:xfrm>
          <a:off x="6629400" y="3200400"/>
          <a:ext cx="5873760" cy="48736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629400" y="3200400"/>
                    <a:ext cx="5873760" cy="48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283D7-B049-4899-B563-7E324E32D577}" type="slidenum">
              <a:t>9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4T08:22:19Z</dcterms:created>
  <dc:creator>Sýkorová</dc:creator>
  <dc:description/>
  <dc:language>en-US</dc:language>
  <cp:lastModifiedBy>sykorova</cp:lastModifiedBy>
  <dcterms:modified xsi:type="dcterms:W3CDTF">2005-01-12T16:55:05Z</dcterms:modified>
  <cp:revision>360</cp:revision>
  <dc:subject/>
  <dc:title>Hlavní město Praha - portrét roku 2004</dc:title>
</cp:coreProperties>
</file>